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642-8754-4E52-83F8-30379B34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5EB-4708-4E7A-8069-47F9CAB8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840-654F-419C-BA69-576F57BC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99D-3066-4763-9A01-E2F1925E8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312-FAD8-4E97-A5A4-5B49AA8E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0104-B76D-41B7-B62F-7ADF4C2E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E1C-7876-4BEA-A66E-CB121E3F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981-61E7-42BE-9664-77DA705E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29E-A9F6-4A34-945D-3CB71110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23D-0CA9-4755-B765-0997E02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95C-C21E-4819-A168-1C0B456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3E3-A664-4203-8229-C4D5156C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C278-56CD-4DF5-99EF-73CBB7ADD9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15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68360" y="620640"/>
            <a:ext cx="822960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сско-Турецкая война (1877-1878)</a:t>
            </a:r>
            <a:endParaRPr b="1" lang="en-US" sz="4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763640" y="0"/>
            <a:ext cx="620100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вказский фронт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2349360"/>
            <a:ext cx="66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Лорис-Меликов занял крепост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Баяз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Ардаг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Кар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5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700360" y="115920"/>
            <a:ext cx="39625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ководцы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/>
          <p:nvPr/>
        </p:nvSpPr>
        <p:spPr>
          <a:xfrm>
            <a:off x="1912320" y="765000"/>
            <a:ext cx="58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Балканский фрон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Картинка 6 из 57"/>
          <p:cNvPicPr/>
          <p:nvPr/>
        </p:nvPicPr>
        <p:blipFill>
          <a:blip r:embed="rId2"/>
          <a:stretch/>
        </p:blipFill>
        <p:spPr>
          <a:xfrm>
            <a:off x="971640" y="1557360"/>
            <a:ext cx="3071880" cy="4437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603576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енер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. Г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тол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4" descr="Картинка 5 из 5"/>
          <p:cNvPicPr/>
          <p:nvPr/>
        </p:nvPicPr>
        <p:blipFill>
          <a:blip r:embed="rId3"/>
          <a:stretch/>
        </p:blipFill>
        <p:spPr>
          <a:xfrm>
            <a:off x="5148360" y="1557360"/>
            <a:ext cx="3022560" cy="4392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796000" y="603576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енер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. П.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риден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Картинка 2 из 361"/>
          <p:cNvPicPr/>
          <p:nvPr/>
        </p:nvPicPr>
        <p:blipFill>
          <a:blip r:embed="rId2"/>
          <a:stretch/>
        </p:blipFill>
        <p:spPr>
          <a:xfrm>
            <a:off x="826920" y="981000"/>
            <a:ext cx="2862360" cy="4176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71640" y="537372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енер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 Д. Скобел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5300640"/>
            <a:ext cx="456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енер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. В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ур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76720" y="907920"/>
            <a:ext cx="2770200" cy="43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99960" y="189000"/>
            <a:ext cx="57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Arial"/>
              </a:rPr>
              <a:t>Кавказский фрон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Картинка 1 из 14"/>
          <p:cNvPicPr/>
          <p:nvPr/>
        </p:nvPicPr>
        <p:blipFill>
          <a:blip r:embed="rId2"/>
          <a:stretch/>
        </p:blipFill>
        <p:spPr>
          <a:xfrm>
            <a:off x="2916360" y="1125360"/>
            <a:ext cx="3811320" cy="4602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83640" y="5805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Arial"/>
              </a:rPr>
              <a:t>Генерал М.Т. Лорис - Мели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835280" y="189000"/>
            <a:ext cx="58388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ирный договор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92360" y="981000"/>
            <a:ext cx="681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Сан-Стефанский мирный договор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          (19 февраля 1878 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421000"/>
            <a:ext cx="549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Сербия, Черногория, Румыния – независим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Болгария – автономное княжество в составе Османской импе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.Россия получала Южную Бессарабию, кавказские города Ардаган, Карс, Баязет, Бату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27280" y="115920"/>
            <a:ext cx="48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ерлинский конгрес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 июль 1878 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340000" y="1341360"/>
            <a:ext cx="4562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.Болгария разделена на 2 части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Северная – зависимое от Турции княжество, Южная- автономная турецкая провинция Восточная Руме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Урезаны территории Сербии и Черног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Россия возвращала крепость Баязет Тур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.Австрия – Босния и Герцегов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.Англия – остров Ки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6308640"/>
            <a:ext cx="70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Презентацию подготовила ученица 10 класса Захарова И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2411280" y="115920"/>
            <a:ext cx="3915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484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" action="ppaction://hlinksldjump"/>
              </a:rPr>
              <a:t>Причины вой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78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3" action="ppaction://hlinksldjump"/>
              </a:rPr>
              <a:t>Страны-участн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21300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4" action="ppaction://hlinksldjump"/>
              </a:rPr>
              <a:t>Соотношение си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645000"/>
            <a:ext cx="65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5" action="ppaction://hlinksldjump"/>
              </a:rPr>
              <a:t>Ход военный действ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6" action="ppaction://hlinksldjump"/>
              </a:rPr>
              <a:t> а) Основные сра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7" action="ppaction://hlinksldjump"/>
              </a:rPr>
              <a:t> б) Полковод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515772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8" action="ppaction://hlinksldjump"/>
              </a:rPr>
              <a:t>Мирный догов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916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9" action="ppaction://hlinksldjump"/>
              </a:rPr>
              <a:t>Цели вой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3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0" action="ppaction://hlinksldjump"/>
              </a:rPr>
              <a:t>Повод к вой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979640" y="0"/>
            <a:ext cx="5638680" cy="13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чины войны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2276640"/>
            <a:ext cx="456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свободительное движение в Боснии, Герцеговине, Болгарии против османского и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68360" y="5157720"/>
            <a:ext cx="481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Борьба европейских стран за влияние на Балканскую полит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355800">
            <a:off x="4859280" y="1915920"/>
            <a:ext cx="381168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700360" y="189000"/>
            <a:ext cx="421020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ели войны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133720"/>
            <a:ext cx="456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Освободить славянские народы от турецкого и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860640"/>
            <a:ext cx="456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Подъем авторитета России как великой держа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 rot="355800">
            <a:off x="6156360" y="3573000"/>
            <a:ext cx="2158920" cy="2944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 rot="21211200">
            <a:off x="539280" y="1457280"/>
            <a:ext cx="2865600" cy="19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21268800">
            <a:off x="179280" y="1557000"/>
            <a:ext cx="49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о инициативе А.М. Горчакова Россия, Германия и Австрия потребовали от Турции уравнять христиан в правах с мусульманами, но Турция, ободренная поддержкой Англии, ответила отказ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484360" y="260280"/>
            <a:ext cx="43912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од к войне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 rot="367200">
            <a:off x="4642920" y="3860280"/>
            <a:ext cx="4124520" cy="27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3011400" cy="1909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rot="21172200">
            <a:off x="179280" y="1052280"/>
            <a:ext cx="2952720" cy="1966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1273600">
            <a:off x="2268000" y="2421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ур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419640" y="1268280"/>
            <a:ext cx="2089080" cy="2089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419640" y="2997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га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 rot="673200">
            <a:off x="5940000" y="1125360"/>
            <a:ext cx="3203640" cy="2135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614400">
            <a:off x="5651280" y="2708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рб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58920" y="0"/>
            <a:ext cx="686736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аны-участники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 rot="20784000">
            <a:off x="250560" y="3860640"/>
            <a:ext cx="3168720" cy="2175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20802600">
            <a:off x="468360" y="5805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рно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 rot="802800">
            <a:off x="5866920" y="3789000"/>
            <a:ext cx="2987640" cy="1946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787800">
            <a:off x="7667280" y="5660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7640" y="623736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лда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908000" y="0"/>
            <a:ext cx="572472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latin typeface="Arial"/>
              </a:rPr>
              <a:t>Соотношение сил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-252360" y="907920"/>
          <a:ext cx="9505800" cy="5634000"/>
        </p:xfrm>
        <a:graphic>
          <a:graphicData uri="http://schemas.openxmlformats.org/drawingml/2006/table">
            <a:tbl>
              <a:tblPr/>
              <a:tblGrid>
                <a:gridCol w="2448000"/>
                <a:gridCol w="2520720"/>
                <a:gridCol w="2016360"/>
                <a:gridCol w="2520720"/>
              </a:tblGrid>
              <a:tr h="43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канский фро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вказский фрон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000 солд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8 000 солд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000 солд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000 солда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жье Берда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00 шаг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жье Марти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00 шагов)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жье Снайд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00 шаг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жье Генр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500 шагов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ниц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ниц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ниц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ница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з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гу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во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ез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гу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во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971640" y="0"/>
            <a:ext cx="7020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Times New Roman"/>
              </a:rPr>
              <a:t>Ход военных действий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92280"/>
            <a:ext cx="81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12  апреля 1877 г.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Александр </a:t>
            </a:r>
            <a:r>
              <a:rPr b="0" lang="en-US" sz="4000" spc="-1" strike="noStrike">
                <a:solidFill>
                  <a:srgbClr val="d60093"/>
                </a:solidFill>
                <a:latin typeface="Arial"/>
              </a:rPr>
              <a:t>II</a:t>
            </a: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 подписал манифес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60093"/>
                </a:solidFill>
                <a:latin typeface="Arial"/>
              </a:rPr>
              <a:t>о начале войны с Турци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rot="516600">
            <a:off x="4652280" y="3789360"/>
            <a:ext cx="4491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8.Турки выбиты из Плевны Тотлебе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9.Гурко – захват Софии - декабрь 187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10.Гурко – захват Адрианополя - янв 187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11.Скобелев – захват Сан-Стефано - 18 янв 1878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50920" y="189000"/>
            <a:ext cx="53913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Балканский фрон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1101400">
            <a:off x="250920" y="1341000"/>
            <a:ext cx="4562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1.Русская армия прошла через Румы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2.Переправа через Дун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3.Освобождение Тырново генералом Гур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4.Захват Шипкинского перева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5.Взятие Никополя вместо Плев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6.Захват Плевны тур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Arial"/>
              </a:rPr>
              <a:t>7.Три неудачных штурма Плев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7:48:29Z</dcterms:created>
  <dc:creator>dima</dc:creator>
  <dc:description/>
  <dc:language>en-US</dc:language>
  <cp:lastModifiedBy>ирина</cp:lastModifiedBy>
  <dcterms:modified xsi:type="dcterms:W3CDTF">2011-01-17T16:11:34Z</dcterms:modified>
  <cp:revision>20</cp:revision>
  <dc:subject/>
  <dc:title>Слайд 1</dc:title>
</cp:coreProperties>
</file>